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483E-390E-4592-8942-D4393061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6898-74C8-41EC-9391-12C41C8F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578C-AB65-4D4F-A7E3-7EED4BE6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450F-BB8E-44BA-8C86-DF912BC3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DEE2-2D04-4ADE-BB01-389D88F1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9027-B43C-433B-8201-04D2B6A2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9FB0-37A6-4FD1-B95E-B35F83F7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968F-0446-4874-82AA-69C01D07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E714-4BCF-48CD-B1EA-3A325AA3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61F4-AFBE-43CC-B2F5-6E48AF5F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4F70-BC4D-4BC9-B915-B6BC9643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F7BB-FAEB-4267-9800-9B2AD018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9A9B-2A6D-4A17-94D7-53565D29D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5905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Biophysical Impacts of RMS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26"/>
          <p:cNvGrpSpPr/>
          <p:nvPr/>
        </p:nvGrpSpPr>
        <p:grpSpPr>
          <a:xfrm>
            <a:off x="609480" y="1295280"/>
            <a:ext cx="7848720" cy="5143680"/>
            <a:chOff x="609480" y="1295280"/>
            <a:chExt cx="7848720" cy="5143680"/>
          </a:xfrm>
        </p:grpSpPr>
        <p:sp>
          <p:nvSpPr>
            <p:cNvPr id="82" name="Hexagon 41"/>
            <p:cNvSpPr/>
            <p:nvPr/>
          </p:nvSpPr>
          <p:spPr>
            <a:xfrm>
              <a:off x="3091680" y="1295280"/>
              <a:ext cx="2117160" cy="506880"/>
            </a:xfrm>
            <a:prstGeom prst="hexagon">
              <a:avLst>
                <a:gd name="adj" fmla="val 25196"/>
                <a:gd name="vf" fmla="val 11547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inf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2"/>
            <p:cNvSpPr/>
            <p:nvPr/>
          </p:nvSpPr>
          <p:spPr>
            <a:xfrm>
              <a:off x="1047240" y="2671560"/>
              <a:ext cx="1387080" cy="579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ge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3"/>
            <p:cNvSpPr/>
            <p:nvPr/>
          </p:nvSpPr>
          <p:spPr>
            <a:xfrm>
              <a:off x="3384000" y="2671560"/>
              <a:ext cx="1533240" cy="579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nd Su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44"/>
            <p:cNvSpPr/>
            <p:nvPr/>
          </p:nvSpPr>
          <p:spPr>
            <a:xfrm>
              <a:off x="6815520" y="2671560"/>
              <a:ext cx="1314000" cy="579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ater 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" name="Shape 45"/>
            <p:cNvCxnSpPr>
              <a:stCxn id="82" idx="1"/>
              <a:endCxn id="85" idx="0"/>
            </p:cNvCxnSpPr>
            <p:nvPr/>
          </p:nvCxnSpPr>
          <p:spPr>
            <a:xfrm>
              <a:off x="5208840" y="1548360"/>
              <a:ext cx="2264040" cy="1123200"/>
            </a:xfrm>
            <a:prstGeom prst="bentConnector2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87" name="Straight Arrow Connector 46"/>
            <p:cNvCxnSpPr/>
            <p:nvPr/>
          </p:nvCxnSpPr>
          <p:spPr>
            <a:xfrm>
              <a:off x="4113720" y="1801800"/>
              <a:ext cx="1080" cy="870120"/>
            </a:xfrm>
            <a:prstGeom prst="straightConnector1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88" name="Elbow Connector 67"/>
            <p:cNvCxnSpPr>
              <a:stCxn id="82" idx="2"/>
              <a:endCxn id="83" idx="0"/>
            </p:cNvCxnSpPr>
            <p:nvPr/>
          </p:nvCxnSpPr>
          <p:spPr>
            <a:xfrm flipV="1" rot="10800000">
              <a:off x="1740960" y="1547280"/>
              <a:ext cx="1351080" cy="1123200"/>
            </a:xfrm>
            <a:prstGeom prst="bentConnector2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89" name="Rectangle 48"/>
            <p:cNvSpPr/>
            <p:nvPr/>
          </p:nvSpPr>
          <p:spPr>
            <a:xfrm>
              <a:off x="3456720" y="4265640"/>
              <a:ext cx="1387080" cy="579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49"/>
            <p:cNvSpPr/>
            <p:nvPr/>
          </p:nvSpPr>
          <p:spPr>
            <a:xfrm>
              <a:off x="3456720" y="5859360"/>
              <a:ext cx="1387080" cy="579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quif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50"/>
            <p:cNvSpPr/>
            <p:nvPr/>
          </p:nvSpPr>
          <p:spPr>
            <a:xfrm>
              <a:off x="6815520" y="4265640"/>
              <a:ext cx="1387080" cy="579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Straight Arrow Connector 51"/>
            <p:cNvCxnSpPr/>
            <p:nvPr/>
          </p:nvCxnSpPr>
          <p:spPr>
            <a:xfrm>
              <a:off x="3675600" y="3250800"/>
              <a:ext cx="1080" cy="1014840"/>
            </a:xfrm>
            <a:prstGeom prst="straightConnector1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93" name="Straight Arrow Connector 52"/>
            <p:cNvCxnSpPr/>
            <p:nvPr/>
          </p:nvCxnSpPr>
          <p:spPr>
            <a:xfrm>
              <a:off x="3675600" y="4844880"/>
              <a:ext cx="1080" cy="1014840"/>
            </a:xfrm>
            <a:prstGeom prst="straightConnector1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94" name="Straight Arrow Connector 53"/>
            <p:cNvCxnSpPr/>
            <p:nvPr/>
          </p:nvCxnSpPr>
          <p:spPr>
            <a:xfrm>
              <a:off x="7472160" y="3250800"/>
              <a:ext cx="1080" cy="1014840"/>
            </a:xfrm>
            <a:prstGeom prst="straightConnector1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95" name="Straight Arrow Connector 54"/>
            <p:cNvCxnSpPr/>
            <p:nvPr/>
          </p:nvCxnSpPr>
          <p:spPr>
            <a:xfrm>
              <a:off x="7472160" y="4844880"/>
              <a:ext cx="1080" cy="1014840"/>
            </a:xfrm>
            <a:prstGeom prst="straightConnector1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96" name="Straight Arrow Connector 55"/>
            <p:cNvCxnSpPr/>
            <p:nvPr/>
          </p:nvCxnSpPr>
          <p:spPr>
            <a:xfrm flipV="1">
              <a:off x="4624920" y="3250440"/>
              <a:ext cx="1080" cy="1014840"/>
            </a:xfrm>
            <a:prstGeom prst="straightConnector1">
              <a:avLst/>
            </a:prstGeom>
            <a:ln w="31680">
              <a:solidFill>
                <a:srgbClr val="0070c0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97" name="Straight Arrow Connector 56"/>
            <p:cNvCxnSpPr/>
            <p:nvPr/>
          </p:nvCxnSpPr>
          <p:spPr>
            <a:xfrm flipV="1">
              <a:off x="4624920" y="4844520"/>
              <a:ext cx="1080" cy="1014840"/>
            </a:xfrm>
            <a:prstGeom prst="straightConnector1">
              <a:avLst/>
            </a:prstGeom>
            <a:ln w="31680">
              <a:solidFill>
                <a:srgbClr val="0070c0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98" name="Straight Arrow Connector 57"/>
            <p:cNvCxnSpPr/>
            <p:nvPr/>
          </p:nvCxnSpPr>
          <p:spPr>
            <a:xfrm flipV="1">
              <a:off x="4624920" y="2091600"/>
              <a:ext cx="1080" cy="5803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99" name="Straight Arrow Connector 58"/>
            <p:cNvCxnSpPr/>
            <p:nvPr/>
          </p:nvCxnSpPr>
          <p:spPr>
            <a:xfrm flipV="1">
              <a:off x="7910280" y="2091600"/>
              <a:ext cx="1080" cy="5803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00" name="Straight Arrow Connector 59"/>
            <p:cNvCxnSpPr/>
            <p:nvPr/>
          </p:nvCxnSpPr>
          <p:spPr>
            <a:xfrm flipV="1">
              <a:off x="2215440" y="2091600"/>
              <a:ext cx="1080" cy="5803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01" name="Straight Arrow Connector 60"/>
            <p:cNvCxnSpPr/>
            <p:nvPr/>
          </p:nvCxnSpPr>
          <p:spPr>
            <a:xfrm flipV="1">
              <a:off x="1266120" y="2091600"/>
              <a:ext cx="1080" cy="580320"/>
            </a:xfrm>
            <a:prstGeom prst="straightConnector1">
              <a:avLst/>
            </a:prstGeom>
            <a:ln w="3168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102" name="Curved Connector 61"/>
            <p:cNvCxnSpPr>
              <a:stCxn id="84" idx="3"/>
            </p:cNvCxnSpPr>
            <p:nvPr/>
          </p:nvCxnSpPr>
          <p:spPr>
            <a:xfrm>
              <a:off x="4916880" y="2961000"/>
              <a:ext cx="1899000" cy="15944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168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03" name="Curved Connector 62"/>
            <p:cNvCxnSpPr>
              <a:stCxn id="90" idx="3"/>
            </p:cNvCxnSpPr>
            <p:nvPr/>
          </p:nvCxnSpPr>
          <p:spPr>
            <a:xfrm flipV="1">
              <a:off x="4843800" y="4554720"/>
              <a:ext cx="1899000" cy="15944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04" name="Straight Arrow Connector 63"/>
            <p:cNvCxnSpPr>
              <a:stCxn id="89" idx="3"/>
            </p:cNvCxnSpPr>
            <p:nvPr/>
          </p:nvCxnSpPr>
          <p:spPr>
            <a:xfrm>
              <a:off x="4843800" y="4555080"/>
              <a:ext cx="1899000" cy="1080"/>
            </a:xfrm>
            <a:prstGeom prst="straightConnector1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05" name="TextBox 110"/>
            <p:cNvSpPr/>
            <p:nvPr/>
          </p:nvSpPr>
          <p:spPr>
            <a:xfrm>
              <a:off x="2288520" y="2164680"/>
              <a:ext cx="9489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nopy Evapo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111"/>
            <p:cNvSpPr/>
            <p:nvPr/>
          </p:nvSpPr>
          <p:spPr>
            <a:xfrm>
              <a:off x="4299480" y="2360520"/>
              <a:ext cx="135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il Evapo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112"/>
            <p:cNvSpPr/>
            <p:nvPr/>
          </p:nvSpPr>
          <p:spPr>
            <a:xfrm>
              <a:off x="7509240" y="1799280"/>
              <a:ext cx="9489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vapo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113"/>
            <p:cNvSpPr/>
            <p:nvPr/>
          </p:nvSpPr>
          <p:spPr>
            <a:xfrm>
              <a:off x="609480" y="1874880"/>
              <a:ext cx="1095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i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114"/>
            <p:cNvSpPr/>
            <p:nvPr/>
          </p:nvSpPr>
          <p:spPr>
            <a:xfrm>
              <a:off x="7034760" y="5859360"/>
              <a:ext cx="9489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tershed dischar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69"/>
            <p:cNvSpPr/>
            <p:nvPr/>
          </p:nvSpPr>
          <p:spPr>
            <a:xfrm>
              <a:off x="5501160" y="5352480"/>
              <a:ext cx="10951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sef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70"/>
            <p:cNvSpPr/>
            <p:nvPr/>
          </p:nvSpPr>
          <p:spPr>
            <a:xfrm>
              <a:off x="5355360" y="3540960"/>
              <a:ext cx="10951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verland f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71"/>
            <p:cNvSpPr/>
            <p:nvPr/>
          </p:nvSpPr>
          <p:spPr>
            <a:xfrm>
              <a:off x="5209200" y="4422600"/>
              <a:ext cx="730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f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72"/>
            <p:cNvSpPr/>
            <p:nvPr/>
          </p:nvSpPr>
          <p:spPr>
            <a:xfrm>
              <a:off x="3237840" y="5419080"/>
              <a:ext cx="10220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rcol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" name="Straight Arrow Connector 73"/>
            <p:cNvCxnSpPr>
              <a:stCxn id="83" idx="3"/>
              <a:endCxn id="84" idx="1"/>
            </p:cNvCxnSpPr>
            <p:nvPr/>
          </p:nvCxnSpPr>
          <p:spPr>
            <a:xfrm>
              <a:off x="2434680" y="2961000"/>
              <a:ext cx="949680" cy="1080"/>
            </a:xfrm>
            <a:prstGeom prst="straightConnector1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15" name="TextBox 121"/>
            <p:cNvSpPr/>
            <p:nvPr/>
          </p:nvSpPr>
          <p:spPr>
            <a:xfrm>
              <a:off x="2507760" y="3034080"/>
              <a:ext cx="948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roughf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75"/>
            <p:cNvSpPr/>
            <p:nvPr/>
          </p:nvSpPr>
          <p:spPr>
            <a:xfrm>
              <a:off x="3237840" y="3540960"/>
              <a:ext cx="10220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ilt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76"/>
            <p:cNvSpPr/>
            <p:nvPr/>
          </p:nvSpPr>
          <p:spPr>
            <a:xfrm>
              <a:off x="3924360" y="5090760"/>
              <a:ext cx="131400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pillary Ri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77"/>
            <p:cNvSpPr/>
            <p:nvPr/>
          </p:nvSpPr>
          <p:spPr>
            <a:xfrm>
              <a:off x="4114080" y="3758400"/>
              <a:ext cx="12409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pillary Ri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78"/>
          <p:cNvGrpSpPr/>
          <p:nvPr/>
        </p:nvGrpSpPr>
        <p:grpSpPr>
          <a:xfrm>
            <a:off x="263520" y="4114800"/>
            <a:ext cx="2363760" cy="2590920"/>
            <a:chOff x="263520" y="4114800"/>
            <a:chExt cx="2363760" cy="2590920"/>
          </a:xfrm>
        </p:grpSpPr>
        <p:pic>
          <p:nvPicPr>
            <p:cNvPr id="120" name="Picture 79" descr=""/>
            <p:cNvPicPr/>
            <p:nvPr/>
          </p:nvPicPr>
          <p:blipFill>
            <a:blip r:embed="rId1"/>
            <a:stretch/>
          </p:blipFill>
          <p:spPr>
            <a:xfrm rot="5400000">
              <a:off x="431640" y="4460400"/>
              <a:ext cx="332640" cy="4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Box 80"/>
            <p:cNvSpPr/>
            <p:nvPr/>
          </p:nvSpPr>
          <p:spPr>
            <a:xfrm>
              <a:off x="726480" y="4438440"/>
              <a:ext cx="1644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productive water u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Picture 4" descr=""/>
            <p:cNvPicPr/>
            <p:nvPr/>
          </p:nvPicPr>
          <p:blipFill>
            <a:blip r:embed="rId2"/>
            <a:stretch/>
          </p:blipFill>
          <p:spPr>
            <a:xfrm rot="5400000">
              <a:off x="437760" y="5307840"/>
              <a:ext cx="342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Box 82"/>
            <p:cNvSpPr/>
            <p:nvPr/>
          </p:nvSpPr>
          <p:spPr>
            <a:xfrm>
              <a:off x="759960" y="5356080"/>
              <a:ext cx="1867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RGET/Productive water u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Straight Arrow Connector 83"/>
            <p:cNvCxnSpPr/>
            <p:nvPr/>
          </p:nvCxnSpPr>
          <p:spPr>
            <a:xfrm>
              <a:off x="379800" y="6421680"/>
              <a:ext cx="410040" cy="1080"/>
            </a:xfrm>
            <a:prstGeom prst="straightConnector1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25" name="TextBox 84"/>
            <p:cNvSpPr/>
            <p:nvPr/>
          </p:nvSpPr>
          <p:spPr>
            <a:xfrm>
              <a:off x="736200" y="6254640"/>
              <a:ext cx="164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f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85"/>
            <p:cNvSpPr/>
            <p:nvPr/>
          </p:nvSpPr>
          <p:spPr>
            <a:xfrm>
              <a:off x="263520" y="423072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nimize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86"/>
            <p:cNvSpPr/>
            <p:nvPr/>
          </p:nvSpPr>
          <p:spPr>
            <a:xfrm>
              <a:off x="263520" y="513216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ximize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87"/>
            <p:cNvSpPr/>
            <p:nvPr/>
          </p:nvSpPr>
          <p:spPr>
            <a:xfrm>
              <a:off x="263520" y="599472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ptimize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88"/>
            <p:cNvSpPr/>
            <p:nvPr/>
          </p:nvSpPr>
          <p:spPr>
            <a:xfrm>
              <a:off x="263520" y="4114800"/>
              <a:ext cx="2244960" cy="2590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itle 1"/>
          <p:cNvSpPr/>
          <p:nvPr/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RMS Impacts on Runoff Proce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UBN_WET.tif"/>
          <p:cNvPicPr/>
          <p:nvPr/>
        </p:nvPicPr>
        <p:blipFill>
          <a:blip r:embed="rId1"/>
          <a:srcRect l="7967" t="3578" r="12234" b="3343"/>
          <a:stretch/>
        </p:blipFill>
        <p:spPr>
          <a:xfrm>
            <a:off x="1066680" y="1222200"/>
            <a:ext cx="6818400" cy="5407200"/>
          </a:xfrm>
          <a:prstGeom prst="rect">
            <a:avLst/>
          </a:prstGeom>
          <a:ln w="0">
            <a:noFill/>
          </a:ln>
        </p:spPr>
      </p:pic>
      <p:sp>
        <p:nvSpPr>
          <p:cNvPr id="132" name="Title 1"/>
          <p:cNvSpPr/>
          <p:nvPr/>
        </p:nvSpPr>
        <p:spPr>
          <a:xfrm>
            <a:off x="533520" y="763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alibri"/>
                <a:ea typeface="Calibri"/>
              </a:rPr>
              <a:t>Proportion of Rainfall Contributing to Major Hydrologic Components </a:t>
            </a:r>
            <a:br>
              <a:rPr sz="2200"/>
            </a:br>
            <a:r>
              <a:rPr b="0" lang="en-US" sz="2200" spc="-1" strike="noStrike">
                <a:solidFill>
                  <a:srgbClr val="0070c0"/>
                </a:solidFill>
                <a:latin typeface="Calibri"/>
                <a:ea typeface="Calibri"/>
              </a:rPr>
              <a:t>(Climate Forecast System Reanalysis, 31 year mean - Wet Season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WAT Management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304920" y="1414440"/>
            <a:ext cx="85993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WAT Scheduled Management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523880"/>
          <a:ext cx="8229600" cy="3946680"/>
        </p:xfrm>
        <a:graphic>
          <a:graphicData uri="http://schemas.openxmlformats.org/drawingml/2006/table">
            <a:tbl>
              <a:tblPr/>
              <a:tblGrid>
                <a:gridCol w="914400"/>
                <a:gridCol w="2514600"/>
                <a:gridCol w="4800600"/>
              </a:tblGrid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ac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s a terrace to the 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le drai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s a tile to the 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ou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s a contour to the 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ter str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s a vegetative filter strip to the 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p c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s strip cropping to the 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s fire to the 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ssed water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s grassed waterways to the 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 par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dates crop parameters to the 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52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integrated biophysical impacts of RMS practices and large-scale developments on water availability, sediment load (and groundwater rechar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ice mechanisms of incorporating RMS practices into basin IWRM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e up- and out-scaling options of RMS practices using sustainability criteria of satisfying downstream requirem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501120" y="1143000"/>
            <a:ext cx="8337960" cy="5181480"/>
            <a:chOff x="501120" y="1143000"/>
            <a:chExt cx="8337960" cy="5181480"/>
          </a:xfrm>
        </p:grpSpPr>
        <p:grpSp>
          <p:nvGrpSpPr>
            <p:cNvPr id="46" name="Group 4"/>
            <p:cNvGrpSpPr/>
            <p:nvPr/>
          </p:nvGrpSpPr>
          <p:grpSpPr>
            <a:xfrm>
              <a:off x="501120" y="1143000"/>
              <a:ext cx="8337960" cy="5181480"/>
              <a:chOff x="501120" y="1143000"/>
              <a:chExt cx="8337960" cy="5181480"/>
            </a:xfrm>
          </p:grpSpPr>
          <p:grpSp>
            <p:nvGrpSpPr>
              <p:cNvPr id="47" name="Group 5"/>
              <p:cNvGrpSpPr/>
              <p:nvPr/>
            </p:nvGrpSpPr>
            <p:grpSpPr>
              <a:xfrm>
                <a:off x="533520" y="1143000"/>
                <a:ext cx="8305560" cy="5181480"/>
                <a:chOff x="533520" y="1143000"/>
                <a:chExt cx="8305560" cy="5181480"/>
              </a:xfrm>
            </p:grpSpPr>
            <p:sp>
              <p:nvSpPr>
                <p:cNvPr id="48" name="Rectangle 6"/>
                <p:cNvSpPr/>
                <p:nvPr/>
              </p:nvSpPr>
              <p:spPr>
                <a:xfrm>
                  <a:off x="533520" y="1143000"/>
                  <a:ext cx="8305560" cy="1752480"/>
                </a:xfrm>
                <a:prstGeom prst="rect">
                  <a:avLst/>
                </a:prstGeom>
                <a:solidFill>
                  <a:srgbClr val="ffff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7"/>
                <p:cNvSpPr/>
                <p:nvPr/>
              </p:nvSpPr>
              <p:spPr>
                <a:xfrm>
                  <a:off x="533520" y="2895480"/>
                  <a:ext cx="8305560" cy="1676520"/>
                </a:xfrm>
                <a:prstGeom prst="rect">
                  <a:avLst/>
                </a:prstGeom>
                <a:solidFill>
                  <a:srgbClr val="cc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Rectangle 8"/>
                <p:cNvSpPr/>
                <p:nvPr/>
              </p:nvSpPr>
              <p:spPr>
                <a:xfrm>
                  <a:off x="533520" y="4572000"/>
                  <a:ext cx="8305560" cy="1752480"/>
                </a:xfrm>
                <a:prstGeom prst="rect">
                  <a:avLst/>
                </a:prstGeom>
                <a:solidFill>
                  <a:srgbClr val="ffcc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" name="Text Box 9"/>
              <p:cNvSpPr/>
              <p:nvPr/>
            </p:nvSpPr>
            <p:spPr>
              <a:xfrm rot="10800000">
                <a:off x="531720" y="1143000"/>
                <a:ext cx="485280" cy="17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atershed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Text Box 10"/>
              <p:cNvSpPr/>
              <p:nvPr/>
            </p:nvSpPr>
            <p:spPr>
              <a:xfrm rot="10800000">
                <a:off x="501120" y="2971440"/>
                <a:ext cx="485280" cy="160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-basi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Text Box 11"/>
              <p:cNvSpPr/>
              <p:nvPr/>
            </p:nvSpPr>
            <p:spPr>
              <a:xfrm rot="10800000">
                <a:off x="533520" y="4727160"/>
                <a:ext cx="485280" cy="152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bay Basi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12"/>
            <p:cNvGrpSpPr/>
            <p:nvPr/>
          </p:nvGrpSpPr>
          <p:grpSpPr>
            <a:xfrm>
              <a:off x="1143000" y="1981080"/>
              <a:ext cx="7238880" cy="3505320"/>
              <a:chOff x="1143000" y="1981080"/>
              <a:chExt cx="7238880" cy="3505320"/>
            </a:xfrm>
          </p:grpSpPr>
          <p:sp>
            <p:nvSpPr>
              <p:cNvPr id="55" name="AutoShape 13"/>
              <p:cNvSpPr/>
              <p:nvPr/>
            </p:nvSpPr>
            <p:spPr>
              <a:xfrm>
                <a:off x="3276720" y="1981080"/>
                <a:ext cx="1371600" cy="1371600"/>
              </a:xfrm>
              <a:prstGeom prst="flowChartAlternateProcess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WAT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od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AutoShape 14"/>
              <p:cNvSpPr/>
              <p:nvPr/>
            </p:nvSpPr>
            <p:spPr>
              <a:xfrm>
                <a:off x="1143000" y="1981080"/>
                <a:ext cx="1219320" cy="1371600"/>
              </a:xfrm>
              <a:prstGeom prst="flowChartInputOutpu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im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i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U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AutoShape 15"/>
              <p:cNvSpPr/>
              <p:nvPr/>
            </p:nvSpPr>
            <p:spPr>
              <a:xfrm>
                <a:off x="3352680" y="4114800"/>
                <a:ext cx="1371600" cy="1371600"/>
              </a:xfrm>
              <a:prstGeom prst="flowChartAlternateProcess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EAP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od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6"/>
              <p:cNvSpPr/>
              <p:nvPr/>
            </p:nvSpPr>
            <p:spPr>
              <a:xfrm>
                <a:off x="2209680" y="2666880"/>
                <a:ext cx="10670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AutoShape 17"/>
              <p:cNvSpPr/>
              <p:nvPr/>
            </p:nvSpPr>
            <p:spPr>
              <a:xfrm>
                <a:off x="5943600" y="1981080"/>
                <a:ext cx="1371600" cy="1371600"/>
              </a:xfrm>
              <a:prstGeom prst="flowChartProcess">
                <a:avLst/>
              </a:prstGeom>
              <a:solidFill>
                <a:srgbClr val="c0c0c0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MS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cenario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18"/>
              <p:cNvSpPr/>
              <p:nvPr/>
            </p:nvSpPr>
            <p:spPr>
              <a:xfrm>
                <a:off x="4648320" y="2666880"/>
                <a:ext cx="129528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AutoShape 19"/>
              <p:cNvSpPr/>
              <p:nvPr/>
            </p:nvSpPr>
            <p:spPr>
              <a:xfrm>
                <a:off x="1219320" y="4114800"/>
                <a:ext cx="1371600" cy="1371600"/>
              </a:xfrm>
              <a:prstGeom prst="flowChartProcess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-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v’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cenario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20"/>
              <p:cNvSpPr/>
              <p:nvPr/>
            </p:nvSpPr>
            <p:spPr>
              <a:xfrm>
                <a:off x="2590920" y="4876920"/>
                <a:ext cx="7617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AutoShape 21"/>
              <p:cNvSpPr/>
              <p:nvPr/>
            </p:nvSpPr>
            <p:spPr>
              <a:xfrm>
                <a:off x="6095880" y="4114800"/>
                <a:ext cx="2286000" cy="1371600"/>
              </a:xfrm>
              <a:prstGeom prst="flowChartAlternateProcess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mpac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valuation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22"/>
              <p:cNvSpPr/>
              <p:nvPr/>
            </p:nvSpPr>
            <p:spPr>
              <a:xfrm>
                <a:off x="4724280" y="4876920"/>
                <a:ext cx="137160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23"/>
              <p:cNvSpPr/>
              <p:nvPr/>
            </p:nvSpPr>
            <p:spPr>
              <a:xfrm>
                <a:off x="3962520" y="3352680"/>
                <a:ext cx="0" cy="762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 Box 24"/>
              <p:cNvSpPr/>
              <p:nvPr/>
            </p:nvSpPr>
            <p:spPr>
              <a:xfrm>
                <a:off x="4114800" y="3352680"/>
                <a:ext cx="205740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arge dams a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iver Juncti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AP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14040" y="129528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-scale development interventions (practice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control and storage infra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power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schematization for SWAT-WEAP lin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provided first feedback on the WEAP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nario definition (development + RMS)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WEAP_Schema2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408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AP Schema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248520" y="5181480"/>
            <a:ext cx="2895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  <a:ea typeface="Arial"/>
              </a:rPr>
              <a:t>Dams / Reservo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rrigation de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  <a:ea typeface="Arial"/>
              </a:rPr>
              <a:t>Rive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WAT-WEAP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WEAP_SWAT_schema2.jpg"/>
          <p:cNvPicPr/>
          <p:nvPr/>
        </p:nvPicPr>
        <p:blipFill>
          <a:blip r:embed="rId1"/>
          <a:srcRect l="21658" t="0" r="17010" b="0"/>
          <a:stretch/>
        </p:blipFill>
        <p:spPr>
          <a:xfrm>
            <a:off x="990720" y="915840"/>
            <a:ext cx="6161040" cy="5942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6172200" y="502920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1489"/>
                </a:solidFill>
                <a:latin typeface="Arial"/>
                <a:ea typeface="Arial"/>
              </a:rPr>
              <a:t>SWAT sub-catch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Arial"/>
              </a:rPr>
              <a:t>Dams / Reservo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rrigation de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Arial"/>
                <a:ea typeface="Arial"/>
              </a:rPr>
              <a:t>Rive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WAT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52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AT initialized based on WEAP requirements and flow data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use, soil and climate data im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sources area (VSA) concept implemented using 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S Tool developed for the Soil-TI deri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bration and RMS scenario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:\IWMI docs\presentations\N4 progress slides\SWAT2009_HRUs.jpg"/>
          <p:cNvPicPr/>
          <p:nvPr/>
        </p:nvPicPr>
        <p:blipFill>
          <a:blip r:embed="rId1"/>
          <a:srcRect l="16670" t="18182" r="14706" b="25000"/>
          <a:stretch/>
        </p:blipFill>
        <p:spPr>
          <a:xfrm>
            <a:off x="1447920" y="4680"/>
            <a:ext cx="6324480" cy="6777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7010280" y="152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avg_ubn.tif"/>
          <p:cNvPicPr/>
          <p:nvPr/>
        </p:nvPicPr>
        <p:blipFill>
          <a:blip r:embed="rId1"/>
          <a:stretch/>
        </p:blipFill>
        <p:spPr>
          <a:xfrm>
            <a:off x="1447920" y="0"/>
            <a:ext cx="50673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7"/>
          <p:cNvSpPr/>
          <p:nvPr/>
        </p:nvSpPr>
        <p:spPr>
          <a:xfrm>
            <a:off x="6553080" y="22860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hly mean Rain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9:58:49Z</dcterms:created>
  <dc:creator>sseyoum</dc:creator>
  <dc:description/>
  <dc:language>en-US</dc:language>
  <cp:lastModifiedBy>Solomon</cp:lastModifiedBy>
  <dcterms:modified xsi:type="dcterms:W3CDTF">2012-05-23T05:11:32Z</dcterms:modified>
  <cp:revision>14</cp:revision>
  <dc:subject/>
  <dc:title>Evaluating Water Resources:  Upscaling Impacts of RMS</dc:title>
</cp:coreProperties>
</file>